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6DFE86-E745-410D-AA98-FB2951E591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8055F8-E13A-45E9-A6BE-3DE5773A58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9DAD1E-8C13-4537-91B8-0CC53312B3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FFF0D3-7CCE-483D-9003-E9206308AB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E7E-6AEF-4ECD-B392-5CA0EBF0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27C-46A2-48E1-B8DE-237B6C4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9C4-E4FB-43BD-BA2C-346A15CD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2C4-0447-40D6-BE4B-82E0FB6D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252-52B6-4833-A78F-E2F06B5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36D-4063-4CC1-9131-0CBDE89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40F-0C27-41C3-8056-5800AAE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08F-E291-43BC-BC50-381EE504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916-261E-4615-8293-F4C2CEB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C8B-81C0-4890-8DF9-C63A4FE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97E-418B-4CE6-ACEC-8F6DA25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37B-4A54-4891-8702-7CA11B5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274-D511-452D-9535-A877E072CB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.marion.or.us/NR/rdonlyres/92FA5101-FC21-4B56-9FD8-4474435C877D/4837/Recycle20ArrowswGlobe20Guy.jpg&amp;imgrefurl=http://www.co.marion.or.us/PW/ES/recycle/&amp;h=2079&amp;w=2085&amp;sz=187&amp;hl=en&amp;start=6&amp;um=1&amp;tbnid=f-hwICzSxDDmKM:&amp;tbnh=150&amp;tbnw=150&amp;prev=/images?q=recycle&amp;um=1&amp;hl=en&amp;sa=X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7640" y="299700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2600"/>
            </a:br>
            <a:r>
              <a:rPr b="1" lang="en-GB" sz="26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ake our 20 best people away, and I will tell you that Microsoft would become an unimportant company”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Bill Gates, CEO of Microsoft in Fortune, November 25th, 1996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s.jpeg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7640" y="1915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 believe in the adage: Hire people smarter than you and get out of their way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ard Schultze, CEO of coffee chain Starbucks (199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mages-3.jpeg"/>
          <p:cNvPicPr/>
          <p:nvPr/>
        </p:nvPicPr>
        <p:blipFill>
          <a:blip r:embed="rId1"/>
          <a:stretch/>
        </p:blipFill>
        <p:spPr>
          <a:xfrm>
            <a:off x="468360" y="3716280"/>
            <a:ext cx="280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urpose of HRM is t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cruit, develo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tili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rganisation’s personnel in the way which is most appropriate to the achievement of the firm’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ims and objecti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bjectives of the Human Resource Depar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Recycle20ArrowswGlobe20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skills and busines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workforce size 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ising labou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ing use of work forces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taining employer/ee re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organisation should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ts employees in a way which is consistent with the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objectives of the busine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 Its main purpose is to establish a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competitive advant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ucial that the HRM functions and processes are aligned with the strategic direction of the business.  It must support the other business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98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the method by which a business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orecast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how many and what type of employees it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needs now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planning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a firm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taffing n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department must have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right num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of appropriately skilled employees to accomplish their target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.g how many workers will be needed and what kind of workforce will be needed – skilled/unskilled, fulltime/part-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es need to operate and plan for future occur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M plan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ecrui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ff – e.g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ere to advertise, how to interview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 also decides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rea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aff while they are working for the business –e.g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ow to use their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tain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them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trai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war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m, and eventually how to terminate their emplo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fore, the likely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ema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products and services must be anticipated and the future implications for recruitment and training consider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596880" y="414360"/>
            <a:ext cx="8255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9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hort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imed at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mmedi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eds of the business, ie. Filling vacancies left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Maternity le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ry to plan for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uture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E.g. if a company was aiming to change its production techniques, it would need to plan in adv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575784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Human Resource</a:t>
            </a: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management: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Employment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03640" y="3250800"/>
            <a:ext cx="56880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·      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387440" y="461880"/>
            <a:ext cx="990720" cy="990720"/>
          </a:xfrm>
          <a:prstGeom prst="rect">
            <a:avLst/>
          </a:prstGeom>
          <a:solidFill>
            <a:srgbClr val="1fe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87440" y="2747880"/>
            <a:ext cx="99072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44440" y="3890880"/>
            <a:ext cx="990720" cy="990720"/>
          </a:xfrm>
          <a:prstGeom prst="rect">
            <a:avLst/>
          </a:prstGeom>
          <a:solidFill>
            <a:srgbClr val="e3b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44440" y="1604880"/>
            <a:ext cx="990720" cy="99072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03280" y="5013360"/>
            <a:ext cx="990720" cy="99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temp-2"/>
          <p:cNvPicPr/>
          <p:nvPr/>
        </p:nvPicPr>
        <p:blipFill>
          <a:blip r:embed="rId1"/>
          <a:stretch/>
        </p:blipFill>
        <p:spPr>
          <a:xfrm>
            <a:off x="179280" y="5051520"/>
            <a:ext cx="122400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"/>
          <a:srcRect l="57392" t="49028" r="21208" b="30319"/>
          <a:stretch/>
        </p:blipFill>
        <p:spPr>
          <a:xfrm>
            <a:off x="179280" y="496800"/>
            <a:ext cx="107964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mipublicrelations.com/images/uploads/leadership.jpg"/>
          <p:cNvPicPr/>
          <p:nvPr/>
        </p:nvPicPr>
        <p:blipFill>
          <a:blip r:embed="rId3"/>
          <a:stretch/>
        </p:blipFill>
        <p:spPr>
          <a:xfrm>
            <a:off x="1332000" y="38354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400_F_2204087_ipqib7qi6TroUtl81kleW2HRST80Nd"/>
          <p:cNvPicPr/>
          <p:nvPr/>
        </p:nvPicPr>
        <p:blipFill>
          <a:blip r:embed="rId4"/>
          <a:stretch/>
        </p:blipFill>
        <p:spPr>
          <a:xfrm>
            <a:off x="179280" y="2797200"/>
            <a:ext cx="115272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catalize.be/public/images/managers.jpg"/>
          <p:cNvPicPr/>
          <p:nvPr/>
        </p:nvPicPr>
        <p:blipFill>
          <a:blip r:embed="rId5"/>
          <a:stretch/>
        </p:blipFill>
        <p:spPr>
          <a:xfrm>
            <a:off x="1403280" y="17352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33:32Z</dcterms:created>
  <dc:creator>Zaira</dc:creator>
  <dc:description/>
  <dc:language>en-US</dc:language>
  <cp:lastModifiedBy>Ernest Reichelt</cp:lastModifiedBy>
  <cp:lastPrinted>2012-04-13T14:19:56Z</cp:lastPrinted>
  <dcterms:modified xsi:type="dcterms:W3CDTF">2013-08-24T12:41:37Z</dcterms:modified>
  <cp:revision>236</cp:revision>
  <dc:subject/>
  <dc:title>Managing Change: Internal causes of change</dc:title>
</cp:coreProperties>
</file>